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17EE7-E9E6-40EE-B153-1F1D4C094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C21A-472C-4B96-A130-9E4AB70F3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649D1-B228-4136-A86B-3F6ECCDD0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B2DA2-4FAD-4578-89BD-1CE5F4B98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B9C25-3043-44D8-A80B-EADFF853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A8EC8-2225-49A8-A6B7-3666B56E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E4FC-8818-45A5-B65C-DE3FAC8D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478A-EEC5-431F-9142-ABCB68A2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44B79-4A07-48A8-877E-6D5D7D76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923C2-A42B-4914-B412-F51DCEFF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F097-E030-4F2F-A91F-71ADCAA4E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2B54-5734-47E2-8C36-AF742517E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539A-5E51-4A4D-A9DF-CF932250A6C9}" type="datetime">
              <a:rPr b="0" lang="el-GR" sz="1200" spc="-1" strike="noStrike">
                <a:solidFill>
                  <a:srgbClr val="898989"/>
                </a:solidFill>
                <a:latin typeface="Cambria"/>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4BFE-E971-41BF-B8AF-DB0D97593388}"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20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Calibri"/>
              </a:rPr>
              <a:t>Το Πρόγραμμα Σπουδών της Μελέτης Περιβάλλοντος στο Πλαίσιο του Νέου Σχολείου</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mbria"/>
              </a:rPr>
              <a:t>Αλεξάνδρα Χ.  Κουλουμπαρίτση</a:t>
            </a:r>
            <a:endParaRPr b="0" lang="en-US" sz="3200" spc="-1" strike="noStrike">
              <a:solidFill>
                <a:srgbClr val="000000"/>
              </a:solidFill>
              <a:latin typeface="Cambr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mbria"/>
              </a:rPr>
              <a:t>Παιδαγωγικό Ινστιτούτο</a:t>
            </a:r>
            <a:endParaRPr b="0" lang="en-US" sz="3200" spc="-1" strike="noStrike">
              <a:solidFill>
                <a:srgbClr val="000000"/>
              </a:solidFill>
              <a:latin typeface="Cambr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mbria"/>
              </a:rPr>
              <a:t>Αθήνα, 1-3/2/2012</a:t>
            </a:r>
            <a:endParaRPr b="0" lang="en-US" sz="3200" spc="-1" strike="noStrike">
              <a:solidFill>
                <a:srgbClr val="000000"/>
              </a:solidFill>
              <a:latin typeface="Cambria"/>
            </a:endParaRPr>
          </a:p>
        </p:txBody>
      </p:sp>
      <p:sp>
        <p:nvSpPr>
          <p:cNvPr id="43"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4C6A-551A-4BF3-90DA-82AFA703556D}"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44"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Γενικεύσεις (2)</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mbria"/>
              </a:rPr>
              <a:t>Γενίκευση: «ΚΑΘΕ ΑΝΘΡΩΠΟΣ ΕΙΝΑΙ ΞΕΧΩΡΙΣΤΟΣ. ΕΧΕΙ ΠΡΟΣΩΠΟ, ΤΑΥΤΟΤΗΤΑ (μακρο-έννοια: ΑΤΟΜΟ). </a:t>
            </a:r>
            <a:endParaRPr b="0" lang="en-US" sz="3000" spc="-1" strike="noStrike">
              <a:solidFill>
                <a:srgbClr val="000000"/>
              </a:solidFill>
              <a:latin typeface="Cambria"/>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u="sng">
                <a:solidFill>
                  <a:srgbClr val="000000"/>
                </a:solidFill>
                <a:uFillTx/>
                <a:latin typeface="Cambria"/>
              </a:rPr>
              <a:t>Ουσιώδες ερώτημα </a:t>
            </a:r>
            <a:r>
              <a:rPr b="0" lang="el-GR" sz="3300" spc="-1" strike="noStrike">
                <a:solidFill>
                  <a:srgbClr val="000000"/>
                </a:solidFill>
                <a:latin typeface="Cambria"/>
              </a:rPr>
              <a:t>(Μαθαίνω τους μαθητές να αναρωτιούνται): </a:t>
            </a:r>
            <a:r>
              <a:rPr b="0" lang="el-GR" sz="3000" spc="-1" strike="noStrike">
                <a:solidFill>
                  <a:srgbClr val="000000"/>
                </a:solidFill>
                <a:latin typeface="Cambria"/>
              </a:rPr>
              <a:t>Τι σημαίνει ξεχωριστός; Τι είναι η ταυτότητα;   Όλοι οι άνθρωποι έχουν ταυτότητα;</a:t>
            </a:r>
            <a:endParaRPr b="0" lang="en-US" sz="3000" spc="-1" strike="noStrike">
              <a:solidFill>
                <a:srgbClr val="000000"/>
              </a:solidFill>
              <a:latin typeface="Cambria"/>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mbria"/>
              </a:rPr>
              <a:t>Βλ. Δραστηριότητα για τις τάξεις Α΄ και Β΄ Δημοτικού στο Συμπληρωματικό Εκπαιδευτικό υλικό</a:t>
            </a:r>
            <a:endParaRPr b="0" lang="en-US" sz="3000" spc="-1" strike="noStrike">
              <a:solidFill>
                <a:srgbClr val="000000"/>
              </a:solidFill>
              <a:latin typeface="Cambria"/>
            </a:endParaRPr>
          </a:p>
        </p:txBody>
      </p:sp>
      <p:sp>
        <p:nvSpPr>
          <p:cNvPr id="79"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A7B3-678A-4A1B-ABB0-6D111FA22F44}"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80"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4. Φύλλο Εργασίας «Ταυτότητες»</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mbria"/>
              </a:rPr>
              <a:t>Το ΠΣ πρέπει να ικανοποιεί 4 μαθησιακούς άξονες / στόχους: 1. Γνώση και κατανόηση, 2. Επικοινωνία και συνεργασία, 3. Κριτική Διερεύνηση, 4. Σύνδεση με τη ζωή.</a:t>
            </a:r>
            <a:endParaRPr b="0" lang="en-US" sz="2400" spc="-1" strike="noStrike">
              <a:solidFill>
                <a:srgbClr val="000000"/>
              </a:solidFill>
              <a:latin typeface="Cambria"/>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mbria"/>
              </a:rPr>
              <a:t>Σχεδιάστε δύο δραστηριότητες για μαθητές Α΄ ή Β ΄ Δημοτικού με θέμα τις «Ταυτότητες». Εξηγήστε ποιον ή ποιους από τους παραπάνω στόχους ικανοποιούν.</a:t>
            </a:r>
            <a:endParaRPr b="0" lang="en-US" sz="2400" spc="-1" strike="noStrike">
              <a:solidFill>
                <a:srgbClr val="000000"/>
              </a:solidFill>
              <a:latin typeface="Cambria"/>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Cambria"/>
              </a:rPr>
              <a:t>Δυο λόγια για τις ταυτότητες</a:t>
            </a:r>
            <a:r>
              <a:rPr b="0" lang="el-GR" sz="1800" spc="-1" strike="noStrike">
                <a:solidFill>
                  <a:srgbClr val="000000"/>
                </a:solidFill>
                <a:latin typeface="Cambria"/>
              </a:rPr>
              <a:t>: 7</a:t>
            </a:r>
            <a:r>
              <a:rPr b="0" lang="el-GR" sz="1800" spc="-1" strike="noStrike" baseline="30000">
                <a:solidFill>
                  <a:srgbClr val="000000"/>
                </a:solidFill>
                <a:latin typeface="Cambria"/>
              </a:rPr>
              <a:t>ο</a:t>
            </a:r>
            <a:r>
              <a:rPr b="0" lang="el-GR" sz="1800" spc="-1" strike="noStrike">
                <a:solidFill>
                  <a:srgbClr val="000000"/>
                </a:solidFill>
                <a:latin typeface="Cambria"/>
              </a:rPr>
              <a:t> άρθρο των  Δικαιωμάτων του Παιδιού, όπου αναφέρεται ότι: «Με τη γέννησή μας έχουμε το δικαίωμα να αποκτήσουμε ένα όνομα και μια εθνικότητα (ιθαγένεια) και να έχουμε τη φροντίδα των γονιών μας». Τα ανθρώπινα δικαιώματα θεμελιώνονται πάνω στις ανθρώπινες ανάγκες είναι σύμφυτα με την ανθρώπινη υπόσταση. Δηλαδή, κάθε άνθρωπος που έρχεται στον κόσμο γεννιέται με ανθρώπινα δικαιώματα. </a:t>
            </a:r>
            <a:endParaRPr b="0" lang="en-US" sz="1800" spc="-1" strike="noStrike">
              <a:solidFill>
                <a:srgbClr val="000000"/>
              </a:solidFill>
              <a:latin typeface="Cambria"/>
            </a:endParaRPr>
          </a:p>
        </p:txBody>
      </p:sp>
      <p:sp>
        <p:nvSpPr>
          <p:cNvPr id="83"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4F11-E544-4357-99AE-E722C57DD2E5}"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84"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3" end="3"/>
                                            </p:txEl>
                                          </p:spTgt>
                                        </p:tgtEl>
                                        <p:attrNameLst>
                                          <p:attrName>style.visibility</p:attrName>
                                        </p:attrNameLst>
                                      </p:cBhvr>
                                      <p:to>
                                        <p:strVal val="visible"/>
                                      </p:to>
                                    </p:set>
                                    <p:anim calcmode="lin" valueType="num">
                                      <p:cBhvr additive="base">
                                        <p:cTn id="7"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5. Τι σημαίνει</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Γνωρίζω και κατανοώ;</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Επικοινωνώ και συνεργάζομαι;</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Σκέφτομαι κριτικά και διερευνώ;</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Εφαρμόζω στην καθημερινή μου ζωή;</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Πώς οι ικανότητες αυτές μεταφράζονται σε προσδοκώμενα μαθησιακά αποτελέσματα;</a:t>
            </a:r>
            <a:endParaRPr b="0" lang="en-US" sz="3200" spc="-1" strike="noStrike">
              <a:solidFill>
                <a:srgbClr val="000000"/>
              </a:solidFill>
              <a:latin typeface="Cambria"/>
            </a:endParaRPr>
          </a:p>
        </p:txBody>
      </p:sp>
      <p:sp>
        <p:nvSpPr>
          <p:cNvPr id="87"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7BAF-DA0A-4F9A-ADBD-D209E20C3570}"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88"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 dur="500"/>
                                        <p:tgtEl>
                                          <p:spTgt spid="86">
                                            <p:txEl>
                                              <p:pRg st="0" end="0"/>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86">
                                            <p:txEl>
                                              <p:pRg st="1" end="1"/>
                                            </p:txEl>
                                          </p:spTgt>
                                        </p:tgtEl>
                                        <p:attrNameLst>
                                          <p:attrName>style.visibility</p:attrName>
                                        </p:attrNameLst>
                                      </p:cBhvr>
                                      <p:to>
                                        <p:strVal val="visible"/>
                                      </p:to>
                                    </p:set>
                                    <p:animEffect filter="checkerboard(across)" transition="in">
                                      <p:cBhvr additive="repl">
                                        <p:cTn id="18" dur="500"/>
                                        <p:tgtEl>
                                          <p:spTgt spid="8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86">
                                            <p:txEl>
                                              <p:pRg st="2" end="2"/>
                                            </p:txEl>
                                          </p:spTgt>
                                        </p:tgtEl>
                                        <p:attrNameLst>
                                          <p:attrName>style.visibility</p:attrName>
                                        </p:attrNameLst>
                                      </p:cBhvr>
                                      <p:to>
                                        <p:strVal val="visible"/>
                                      </p:to>
                                    </p:set>
                                    <p:animEffect filter="checkerboard(across)" transition="in">
                                      <p:cBhvr additive="repl">
                                        <p:cTn id="23" dur="500"/>
                                        <p:tgtEl>
                                          <p:spTgt spid="86">
                                            <p:txEl>
                                              <p:pRg st="2" end="2"/>
                                            </p:txEl>
                                          </p:spTgt>
                                        </p:tgtEl>
                                      </p:cBhvr>
                                    </p:animEffect>
                                  </p:childTnLst>
                                </p:cTn>
                              </p:par>
                              <p:par>
                                <p:cTn id="24" nodeType="withEffect" fill="hold" presetClass="entr" presetID="5" presetSubtype="10">
                                  <p:stCondLst>
                                    <p:cond delay="0"/>
                                  </p:stCondLst>
                                  <p:childTnLst>
                                    <p:set>
                                      <p:cBhvr>
                                        <p:cTn id="25" dur="1" fill="hold">
                                          <p:stCondLst>
                                            <p:cond delay="0"/>
                                          </p:stCondLst>
                                        </p:cTn>
                                        <p:tgtEl>
                                          <p:spTgt spid="86">
                                            <p:txEl>
                                              <p:pRg st="3" end="3"/>
                                            </p:txEl>
                                          </p:spTgt>
                                        </p:tgtEl>
                                        <p:attrNameLst>
                                          <p:attrName>style.visibility</p:attrName>
                                        </p:attrNameLst>
                                      </p:cBhvr>
                                      <p:to>
                                        <p:strVal val="visible"/>
                                      </p:to>
                                    </p:set>
                                    <p:animEffect filter="checkerboard(across)" transition="in">
                                      <p:cBhvr additive="repl">
                                        <p:cTn id="26" dur="500"/>
                                        <p:tgtEl>
                                          <p:spTgt spid="8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6">
                                            <p:txEl>
                                              <p:pRg st="5" end="5"/>
                                            </p:txEl>
                                          </p:spTgt>
                                        </p:tgtEl>
                                        <p:attrNameLst>
                                          <p:attrName>style.visibility</p:attrName>
                                        </p:attrNameLst>
                                      </p:cBhvr>
                                      <p:to>
                                        <p:strVal val="visible"/>
                                      </p:to>
                                    </p:set>
                                    <p:anim calcmode="lin" valueType="num">
                                      <p:cBhvr additive="base">
                                        <p:cTn id="31" dur="5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Όταν οι μαθητές…</a:t>
            </a:r>
            <a:endParaRPr b="0" lang="en-US" sz="2200" spc="-1" strike="noStrike">
              <a:solidFill>
                <a:srgbClr val="000000"/>
              </a:solidFill>
              <a:latin typeface="Calibri"/>
            </a:endParaRPr>
          </a:p>
        </p:txBody>
      </p:sp>
      <p:graphicFrame>
        <p:nvGraphicFramePr>
          <p:cNvPr id="90" name=""/>
          <p:cNvGraphicFramePr/>
          <p:nvPr/>
        </p:nvGraphicFramePr>
        <p:xfrm>
          <a:off x="539640" y="981000"/>
          <a:ext cx="8229600" cy="4846680"/>
        </p:xfrm>
        <a:graphic>
          <a:graphicData uri="http://schemas.openxmlformats.org/drawingml/2006/table">
            <a:tbl>
              <a:tblPr/>
              <a:tblGrid>
                <a:gridCol w="1871640"/>
                <a:gridCol w="6357960"/>
              </a:tblGrid>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Γνωρίζουν και κατανοού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Παρατηρούν και να περιγράφουν γεγονότα, ανθρώπους, αντικείμενα, φαινόμεν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 Αναγνωρίζουν στοιχεία, φαινόμενα, κτλ. </a:t>
                      </a:r>
                      <a:endParaRPr b="0" lang="en-US" sz="18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ποδίδουν μέσα από διάφορες μορφές κώδικα τις σκέψεις τους: προφορικά, γραπτά, με εικόνες, ψηφιακά, κτλ.</a:t>
                      </a:r>
                      <a:endParaRPr b="0" lang="en-US" sz="18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Οργανώνουν και σχηματοποιούν τη γνώ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Εξηγούν με δικό τους πρωτότυπο τρόπο όσα γνωρίζου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 </a:t>
                      </a:r>
                      <a:r>
                        <a:rPr b="0" lang="el-GR" sz="1800" spc="-1" strike="noStrike">
                          <a:solidFill>
                            <a:srgbClr val="000000"/>
                          </a:solidFill>
                          <a:latin typeface="Cambria"/>
                        </a:rPr>
                        <a:t>-Μεταφέρουν γνώσεις και εμπειρίες  και τις  εφαρμόζουν με επιτυχία από τη μία γνωστική περιοχή σε άλλ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 Κατανοούν  και χειρίζονται στις εργασίες τους  τον γλωσσικό κώδικα  των Κοινωνικών Επιστημώ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Επικοινωνούν και συνεργάζοντα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υνεργάζονται για την επίτευξη κοινών στόχω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υνεργάζονται για το κοινό, δημόσιο καλ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Εκφράζουν ιδέες, συναισθήματα, προβλήματ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λλάζουν ρόλου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Επιδεικνύουν υπευθυνότητα και διεκπεραιώνουν  το έργο που έχουν αναλάβει στα προβλεπόμενα  χρονοδιαγράμματ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4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F24B-F94C-4126-A85D-A2CC4AF65389}"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92" name="5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Calibri"/>
              </a:rPr>
              <a:t>Όταν οι μαθητές…</a:t>
            </a:r>
            <a:endParaRPr b="0" lang="en-US" sz="4000" spc="-1" strike="noStrike">
              <a:solidFill>
                <a:srgbClr val="000000"/>
              </a:solidFill>
              <a:latin typeface="Calibri"/>
            </a:endParaRPr>
          </a:p>
        </p:txBody>
      </p:sp>
      <p:graphicFrame>
        <p:nvGraphicFramePr>
          <p:cNvPr id="94" name=""/>
          <p:cNvGraphicFramePr/>
          <p:nvPr/>
        </p:nvGraphicFramePr>
        <p:xfrm>
          <a:off x="539640" y="907920"/>
          <a:ext cx="8229600" cy="5765760"/>
        </p:xfrm>
        <a:graphic>
          <a:graphicData uri="http://schemas.openxmlformats.org/drawingml/2006/table">
            <a:tbl>
              <a:tblPr/>
              <a:tblGrid>
                <a:gridCol w="1728720"/>
                <a:gridCol w="650088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Κριτικ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διερευνού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υλλέγουν,  οργανώνουν και  αξιολογούν πληροφορίε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Χρησιμοποιούν κριτήρια  για να κρίνουν και να συγκρίνου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σκούν κριτική σε ιδέες, κείμενα και πληροφορίε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ναγνωρίζουν ένα πραγματικό γεγονός από την αξιολογική κρί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Διατυπώνουν ερωτήματ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Υποστηρίζουν τα επιχειρήματά τους με γνώσεις, στοιχεία, ιδέε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Καταλήγουν σε συμπεράσματα μέσα από ανάλυση και σύνθεση δεδομένω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υνδέουν με τη ζω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Εντοπίζουν το ζήτημα ή το πρόβλημ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ναλύουν το ζήτημα.</a:t>
                      </a:r>
                      <a:r>
                        <a:rPr b="0" lang="el-GR" sz="1800" spc="-1" strike="noStrike">
                          <a:solidFill>
                            <a:srgbClr val="000000"/>
                          </a:solidFill>
                          <a:latin typeface="Cambr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υλλέγουν ιδέες ή λύσεις από διάφορες πηγέ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αξινομούν με κριτήρια τις λύσεις ή τις ιδέε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ναλαμβάνουν δράση στο σχολικό και κοινοτικό περιβάλλο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Αξιολογούν την ερευνητική εργασία (αποτέλεσμα) και την ατομική  και ομαδική συνεργασία και μεθοδολογική ακρίβεια και συνέπει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Αναγνωρίζουν  προκαταλήψεις και ιδεοληψίε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4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A79E-4FBD-4407-8779-3770BE692642}"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96" name="5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5</a:t>
            </a:r>
            <a:r>
              <a:rPr b="0" lang="el-GR" sz="4400" spc="-1" strike="noStrike" baseline="30000">
                <a:solidFill>
                  <a:srgbClr val="000000"/>
                </a:solidFill>
                <a:latin typeface="Calibri"/>
              </a:rPr>
              <a:t>α</a:t>
            </a:r>
            <a:r>
              <a:rPr b="0" lang="el-GR" sz="4400" spc="-1" strike="noStrike">
                <a:solidFill>
                  <a:srgbClr val="000000"/>
                </a:solidFill>
                <a:latin typeface="Calibri"/>
              </a:rPr>
              <a:t>  Οργάνωση της διδασκαλίας</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Σχεδιασμός ανά τρίμηνο και σε ισορροπία με την κατεύθυνση ΦΕ.</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Καταλήγουμε στις ενότητες</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Καταγράφουμε τους στόχος / προσδοκώμενα αποτελέσματα</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Σχεδιάζουμε δραστηριότητες με θέμα: «Ζούμε μαζί και συνεργαζόμαστε»</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0C49-9E26-40BD-B465-3B09ED8A223D}"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00"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Επιλογή περιεχομένου</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mbria"/>
              </a:rPr>
              <a:t>ΠΕΡΙΕΧΟΜΕΝΟ:  Η δασκάλα ή ο δάσκαλος που έχουν δηλώσει ΜτΠ θα εφαρμόσουν πιλοτικά το μάθημα αυτό μέχρι τον Μάιο 2012, για περίπου 14 εβδομάδες. Αναμένεται από αυτές, </a:t>
            </a:r>
            <a:r>
              <a:rPr b="1" lang="el-GR" sz="3000" spc="-1" strike="noStrike" u="sng">
                <a:solidFill>
                  <a:srgbClr val="000000"/>
                </a:solidFill>
                <a:uFillTx/>
                <a:latin typeface="Cambria"/>
              </a:rPr>
              <a:t>οι 7-8 εβδομάδες</a:t>
            </a:r>
            <a:r>
              <a:rPr b="0" lang="el-GR" sz="3000" spc="-1" strike="noStrike">
                <a:solidFill>
                  <a:srgbClr val="000000"/>
                </a:solidFill>
                <a:latin typeface="Cambria"/>
              </a:rPr>
              <a:t> (24-26 ώρες περίπου, ανάλογα με την τάξη) να αφορούν στην κατεύθυνση Κοινωνικών Επιστημών: Μπορείτε να επιλέξετε τις ενότητες που επιθυμείτε και να τις διδάξετε με τη σειρά που θέλετε. Καλό είναι να κάνετε ένα χρονοδιάγραμμα για την περίοδο της πιλοτικής εφαρμογής. </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
        <p:nvSpPr>
          <p:cNvPr id="103"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94DF-64F2-4253-9516-189965868CC0}"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04"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826920" y="-2619360"/>
          <a:ext cx="7777440" cy="10952280"/>
        </p:xfrm>
        <a:graphic>
          <a:graphicData uri="http://schemas.openxmlformats.org/drawingml/2006/table">
            <a:tbl>
              <a:tblPr/>
              <a:tblGrid>
                <a:gridCol w="1476720"/>
                <a:gridCol w="1476360"/>
                <a:gridCol w="1871640"/>
                <a:gridCol w="2952720"/>
              </a:tblGrid>
              <a:tr h="244800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Α΄ τάξη</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Β΄ τάξη</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Γ΄ τάξη</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Δ΄ τάξη</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r h="850428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1.</a:t>
                      </a:r>
                      <a:r>
                        <a:rPr b="1" lang="el-GR" sz="1800" spc="-1" strike="noStrike">
                          <a:solidFill>
                            <a:srgbClr val="000000"/>
                          </a:solidFill>
                          <a:latin typeface="Calibri"/>
                          <a:ea typeface="Calibri"/>
                        </a:rPr>
                        <a:t>Το άτομο και οι ανάγκες του</a:t>
                      </a:r>
                      <a:r>
                        <a:rPr b="0" lang="el-GR"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Βασικές ανάγκε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Οι αισθήσει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 </a:t>
                      </a:r>
                      <a:r>
                        <a:rPr b="0" lang="el-GR" sz="1800" spc="-1" strike="noStrike">
                          <a:solidFill>
                            <a:srgbClr val="000000"/>
                          </a:solidFill>
                          <a:latin typeface="Calibri"/>
                          <a:ea typeface="Calibri"/>
                        </a:rPr>
                        <a:t>-Η σημασία της ταυτότητα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2</a:t>
                      </a:r>
                      <a:r>
                        <a:rPr b="1" lang="el-GR" sz="1800" spc="-1" strike="noStrike">
                          <a:solidFill>
                            <a:srgbClr val="000000"/>
                          </a:solidFill>
                          <a:latin typeface="Calibri"/>
                          <a:ea typeface="Calibri"/>
                        </a:rPr>
                        <a:t>.Η ομάδα</a:t>
                      </a:r>
                      <a:r>
                        <a:rPr b="0" lang="el-GR" sz="1800" spc="-1" strike="noStrike">
                          <a:solidFill>
                            <a:srgbClr val="000000"/>
                          </a:solidFill>
                          <a:latin typeface="Calibri"/>
                          <a:ea typeface="Calibri"/>
                        </a:rPr>
                        <a:t> / 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3.</a:t>
                      </a:r>
                      <a:r>
                        <a:rPr b="1" lang="el-GR" sz="1800" spc="-1" strike="noStrike">
                          <a:solidFill>
                            <a:srgbClr val="000000"/>
                          </a:solidFill>
                          <a:latin typeface="Calibri"/>
                          <a:ea typeface="Calibri"/>
                        </a:rPr>
                        <a:t>Οικονο </a:t>
                      </a:r>
                      <a:r>
                        <a:rPr b="0" lang="el-GR" sz="1800" spc="-1" strike="noStrike">
                          <a:solidFill>
                            <a:srgbClr val="000000"/>
                          </a:solidFill>
                          <a:latin typeface="Calibri"/>
                          <a:ea typeface="Calibri"/>
                        </a:rPr>
                        <a:t>(αγαθά και επαγγέλματ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4.</a:t>
                      </a:r>
                      <a:r>
                        <a:rPr b="1" lang="el-GR" sz="1800" spc="-1" strike="noStrike">
                          <a:solidFill>
                            <a:srgbClr val="000000"/>
                          </a:solidFill>
                          <a:latin typeface="Calibri"/>
                          <a:ea typeface="Calibri"/>
                        </a:rPr>
                        <a:t>Πολιτισμός</a:t>
                      </a:r>
                      <a:r>
                        <a:rPr b="0" lang="el-GR" sz="1800" spc="-1" strike="noStrike">
                          <a:solidFill>
                            <a:srgbClr val="000000"/>
                          </a:solidFill>
                          <a:latin typeface="Calibri"/>
                          <a:ea typeface="Calibri"/>
                        </a:rPr>
                        <a:t> (έθιμ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5.</a:t>
                      </a:r>
                      <a:r>
                        <a:rPr b="1" lang="el-GR" sz="1800" spc="-1" strike="noStrike">
                          <a:solidFill>
                            <a:srgbClr val="000000"/>
                          </a:solidFill>
                          <a:latin typeface="Calibri"/>
                          <a:ea typeface="Calibri"/>
                        </a:rPr>
                        <a:t>Επικοινωνία  και Ενημέρω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6.</a:t>
                      </a:r>
                      <a:r>
                        <a:rPr b="1" lang="el-GR" sz="1800" spc="-1" strike="noStrike">
                          <a:solidFill>
                            <a:srgbClr val="000000"/>
                          </a:solidFill>
                          <a:latin typeface="Calibri"/>
                          <a:ea typeface="Calibri"/>
                        </a:rPr>
                        <a:t>Η ζωή στον τόπο μου </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1.</a:t>
                      </a:r>
                      <a:r>
                        <a:rPr b="1" lang="el-GR" sz="1800" spc="-1" strike="noStrike">
                          <a:solidFill>
                            <a:srgbClr val="000000"/>
                          </a:solidFill>
                          <a:latin typeface="Calibri"/>
                          <a:ea typeface="Calibri"/>
                        </a:rPr>
                        <a:t>Το άτομο και οι ανάγκες του</a:t>
                      </a:r>
                      <a:r>
                        <a:rPr b="0" lang="el-GR" sz="1800" spc="-1" strike="noStrike">
                          <a:solidFill>
                            <a:srgbClr val="000000"/>
                          </a:solidFill>
                          <a:latin typeface="Calibri"/>
                          <a:ea typeface="Calibri"/>
                        </a:rPr>
                        <a:t> «Όλοι ίσοι, όλοι διαφορετικο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2.</a:t>
                      </a:r>
                      <a:r>
                        <a:rPr b="1" lang="el-GR" sz="1800" spc="-1" strike="noStrike">
                          <a:solidFill>
                            <a:srgbClr val="000000"/>
                          </a:solidFill>
                          <a:latin typeface="Calibri"/>
                          <a:ea typeface="Calibri"/>
                        </a:rPr>
                        <a:t>Η ομάδα</a:t>
                      </a:r>
                      <a:r>
                        <a:rPr b="0" lang="el-GR" sz="1800" spc="-1" strike="noStrike">
                          <a:solidFill>
                            <a:srgbClr val="000000"/>
                          </a:solidFill>
                          <a:latin typeface="Calibri"/>
                          <a:ea typeface="Calibri"/>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3.</a:t>
                      </a:r>
                      <a:r>
                        <a:rPr b="1" lang="el-GR" sz="1800" spc="-1" strike="noStrike">
                          <a:solidFill>
                            <a:srgbClr val="000000"/>
                          </a:solidFill>
                          <a:latin typeface="Calibri"/>
                          <a:ea typeface="Calibri"/>
                        </a:rPr>
                        <a:t>Πολιτισμός</a:t>
                      </a:r>
                      <a:r>
                        <a:rPr b="0" lang="el-GR" sz="1800" spc="-1" strike="noStrike">
                          <a:solidFill>
                            <a:srgbClr val="000000"/>
                          </a:solidFill>
                          <a:latin typeface="Calibri"/>
                          <a:ea typeface="Calibri"/>
                        </a:rPr>
                        <a:t> (μουσείο, τοπικό πανηγύρ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4.</a:t>
                      </a:r>
                      <a:r>
                        <a:rPr b="1" lang="el-GR" sz="1800" spc="-1" strike="noStrike">
                          <a:solidFill>
                            <a:srgbClr val="000000"/>
                          </a:solidFill>
                          <a:latin typeface="Calibri"/>
                          <a:ea typeface="Calibri"/>
                        </a:rPr>
                        <a:t>Επικοινωνία  και Ενημέρωση</a:t>
                      </a:r>
                      <a:r>
                        <a:rPr b="0" lang="el-GR" sz="1800" spc="-1" strike="noStrike">
                          <a:solidFill>
                            <a:srgbClr val="000000"/>
                          </a:solidFill>
                          <a:latin typeface="Calibri"/>
                          <a:ea typeface="Calibri"/>
                        </a:rPr>
                        <a:t> / Επικοινωνώ με ευγένει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5.</a:t>
                      </a:r>
                      <a:r>
                        <a:rPr b="1" lang="el-GR" sz="1800" spc="-1" strike="noStrike">
                          <a:solidFill>
                            <a:srgbClr val="000000"/>
                          </a:solidFill>
                          <a:latin typeface="Calibri"/>
                          <a:ea typeface="Calibri"/>
                        </a:rPr>
                        <a:t>Χώρος</a:t>
                      </a:r>
                      <a:r>
                        <a:rPr b="0" lang="el-GR" sz="1800" spc="-1" strike="noStrike">
                          <a:solidFill>
                            <a:srgbClr val="000000"/>
                          </a:solidFill>
                          <a:latin typeface="Calibri"/>
                          <a:ea typeface="Calibri"/>
                        </a:rPr>
                        <a:t>: </a:t>
                      </a:r>
                      <a:r>
                        <a:rPr b="1" lang="el-GR" sz="1800" spc="-1" strike="noStrike">
                          <a:solidFill>
                            <a:srgbClr val="000000"/>
                          </a:solidFill>
                          <a:latin typeface="Calibri"/>
                          <a:ea typeface="Calibri"/>
                        </a:rPr>
                        <a:t>Η ζωή στον τόπο μο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6. Χρόνος: </a:t>
                      </a:r>
                      <a:r>
                        <a:rPr b="0" lang="el-GR" sz="1800" spc="-1" strike="noStrike">
                          <a:solidFill>
                            <a:srgbClr val="000000"/>
                          </a:solidFill>
                          <a:latin typeface="Calibri"/>
                          <a:ea typeface="Calibri"/>
                        </a:rPr>
                        <a:t> Ο τόπος και πόσο έχει αλλάξει στον χρόνο</a:t>
                      </a:r>
                      <a:r>
                        <a:rPr b="1" lang="el-GR"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Calibri"/>
                        </a:rPr>
                        <a:t>-</a:t>
                      </a:r>
                      <a:r>
                        <a:rPr b="0" lang="el-GR" sz="1800" spc="-1" strike="noStrike">
                          <a:solidFill>
                            <a:srgbClr val="000000"/>
                          </a:solidFill>
                          <a:latin typeface="Calibri"/>
                          <a:ea typeface="Calibri"/>
                        </a:rPr>
                        <a:t>Εποχές και έθιμ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7. </a:t>
                      </a:r>
                      <a:r>
                        <a:rPr b="1" lang="el-GR" sz="1800" spc="-1" strike="noStrike">
                          <a:solidFill>
                            <a:srgbClr val="000000"/>
                          </a:solidFill>
                          <a:latin typeface="Calibri"/>
                          <a:ea typeface="Calibri"/>
                        </a:rPr>
                        <a:t>Μετακινήσεις – Μεταφορές με ασφάλεια</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1</a:t>
                      </a:r>
                      <a:r>
                        <a:rPr b="1" lang="el-GR" sz="1800" spc="-1" strike="noStrike">
                          <a:solidFill>
                            <a:srgbClr val="000000"/>
                          </a:solidFill>
                          <a:latin typeface="Calibri"/>
                          <a:ea typeface="Calibri"/>
                        </a:rPr>
                        <a:t>.Ομάδα</a:t>
                      </a:r>
                      <a:r>
                        <a:rPr b="0" lang="el-GR" sz="1800" spc="-1" strike="noStrike">
                          <a:solidFill>
                            <a:srgbClr val="000000"/>
                          </a:solidFill>
                          <a:latin typeface="Calibri"/>
                          <a:ea typeface="Calibri"/>
                        </a:rPr>
                        <a:t>: Ζούμε μαζί και συνεργαζόμαστε -Κανόνες συμβίωσης -Ενδιαφερόμαστε για την κοινότητ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2.</a:t>
                      </a:r>
                      <a:r>
                        <a:rPr b="1" lang="el-GR" sz="1800" spc="-1" strike="noStrike">
                          <a:solidFill>
                            <a:srgbClr val="000000"/>
                          </a:solidFill>
                          <a:latin typeface="Calibri"/>
                          <a:ea typeface="Calibri"/>
                        </a:rPr>
                        <a:t>Ανάγκες και ανθρώπινα δικαιώματ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3</a:t>
                      </a:r>
                      <a:r>
                        <a:rPr b="1" lang="el-GR" sz="1800" spc="-1" strike="noStrike">
                          <a:solidFill>
                            <a:srgbClr val="000000"/>
                          </a:solidFill>
                          <a:latin typeface="Calibri"/>
                          <a:ea typeface="Calibri"/>
                        </a:rPr>
                        <a:t>.Οικονομία</a:t>
                      </a:r>
                      <a:r>
                        <a:rPr b="0" lang="el-GR" sz="1800" spc="-1" strike="noStrike">
                          <a:solidFill>
                            <a:srgbClr val="000000"/>
                          </a:solidFill>
                          <a:latin typeface="Calibri"/>
                          <a:ea typeface="Calibri"/>
                        </a:rPr>
                        <a:t>:Ανάγκες και επιθυμίες / κατανάλω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4. </a:t>
                      </a:r>
                      <a:r>
                        <a:rPr b="1" lang="el-GR" sz="1800" spc="-1" strike="noStrike">
                          <a:solidFill>
                            <a:srgbClr val="000000"/>
                          </a:solidFill>
                          <a:latin typeface="Calibri"/>
                          <a:ea typeface="Calibri"/>
                        </a:rPr>
                        <a:t>Η ζωή σε διαφορετικούς τόπους.</a:t>
                      </a:r>
                      <a:r>
                        <a:rPr b="0" lang="el-GR" sz="1800" spc="-1" strike="noStrike">
                          <a:solidFill>
                            <a:srgbClr val="000000"/>
                          </a:solidFill>
                          <a:latin typeface="Calibri"/>
                          <a:ea typeface="Calibri"/>
                        </a:rPr>
                        <a:t> Γεωμορφολογικά στοιχεία και οικονομ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5. </a:t>
                      </a:r>
                      <a:r>
                        <a:rPr b="1" lang="el-GR" sz="1800" spc="-1" strike="noStrike">
                          <a:solidFill>
                            <a:srgbClr val="000000"/>
                          </a:solidFill>
                          <a:latin typeface="Calibri"/>
                          <a:ea typeface="Calibri"/>
                        </a:rPr>
                        <a:t>Πολιτισμός:</a:t>
                      </a:r>
                      <a:r>
                        <a:rPr b="0" lang="el-GR" sz="1800" spc="-1" strike="noStrike">
                          <a:solidFill>
                            <a:srgbClr val="000000"/>
                          </a:solidFill>
                          <a:latin typeface="Calibri"/>
                          <a:ea typeface="Calibri"/>
                        </a:rPr>
                        <a:t> Το θέατρο – Μνημεία του τόπου μα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6. </a:t>
                      </a:r>
                      <a:r>
                        <a:rPr b="1" lang="el-GR" sz="1800" spc="-1" strike="noStrike">
                          <a:solidFill>
                            <a:srgbClr val="000000"/>
                          </a:solidFill>
                          <a:latin typeface="Calibri"/>
                          <a:ea typeface="Calibri"/>
                        </a:rPr>
                        <a:t>Τρόποι επικοινωνίας και ενημέρωσης /</a:t>
                      </a:r>
                      <a:r>
                        <a:rPr b="0" lang="el-GR" sz="1800" spc="-1" strike="noStrike">
                          <a:solidFill>
                            <a:srgbClr val="000000"/>
                          </a:solidFill>
                          <a:latin typeface="Calibri"/>
                          <a:ea typeface="Calibri"/>
                        </a:rPr>
                        <a:t> Διαφημίσεις</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1.</a:t>
                      </a:r>
                      <a:r>
                        <a:rPr b="1" lang="el-GR" sz="1800" spc="-1" strike="noStrike">
                          <a:solidFill>
                            <a:srgbClr val="000000"/>
                          </a:solidFill>
                          <a:latin typeface="Calibri"/>
                          <a:ea typeface="Calibri"/>
                        </a:rPr>
                        <a:t>Άτομο:</a:t>
                      </a:r>
                      <a:r>
                        <a:rPr b="0" lang="el-GR" sz="1800" spc="-1" strike="noStrike">
                          <a:solidFill>
                            <a:srgbClr val="000000"/>
                          </a:solidFill>
                          <a:latin typeface="Calibri"/>
                          <a:ea typeface="Calibri"/>
                        </a:rPr>
                        <a:t> Σκελετός Υγεία – υγιεινή διατροφ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2. </a:t>
                      </a:r>
                      <a:r>
                        <a:rPr b="1" lang="el-GR" sz="1800" spc="-1" strike="noStrike">
                          <a:solidFill>
                            <a:srgbClr val="000000"/>
                          </a:solidFill>
                          <a:latin typeface="Calibri"/>
                          <a:ea typeface="Calibri"/>
                        </a:rPr>
                        <a:t>Οικονομία:</a:t>
                      </a:r>
                      <a:r>
                        <a:rPr b="0" lang="el-GR" sz="1800" spc="-1" strike="noStrike">
                          <a:solidFill>
                            <a:srgbClr val="000000"/>
                          </a:solidFill>
                          <a:latin typeface="Calibri"/>
                          <a:ea typeface="Calibri"/>
                        </a:rPr>
                        <a:t> Ισότητα στην Εργασία, επαγγέλματ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3.</a:t>
                      </a:r>
                      <a:r>
                        <a:rPr b="1" lang="el-GR" sz="1800" spc="-1" strike="noStrike">
                          <a:solidFill>
                            <a:srgbClr val="000000"/>
                          </a:solidFill>
                          <a:latin typeface="Calibri"/>
                          <a:ea typeface="Calibri"/>
                        </a:rPr>
                        <a:t>Επικοινωνία και ενημέρωση: </a:t>
                      </a:r>
                      <a:r>
                        <a:rPr b="0" lang="el-GR" sz="1800" spc="-1" strike="noStrike">
                          <a:solidFill>
                            <a:srgbClr val="000000"/>
                          </a:solidFill>
                          <a:latin typeface="Calibri"/>
                          <a:ea typeface="Calibri"/>
                        </a:rPr>
                        <a:t>μέσα, συνεργατικά εργαλεία και διαδίκτυ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4. </a:t>
                      </a:r>
                      <a:r>
                        <a:rPr b="1" lang="el-GR" sz="1800" spc="-1" strike="noStrike">
                          <a:solidFill>
                            <a:srgbClr val="000000"/>
                          </a:solidFill>
                          <a:latin typeface="Calibri"/>
                          <a:ea typeface="Calibri"/>
                        </a:rPr>
                        <a:t>Πολιτισμός:</a:t>
                      </a:r>
                      <a:r>
                        <a:rPr b="0" lang="el-GR" sz="1800" spc="-1" strike="noStrike">
                          <a:solidFill>
                            <a:srgbClr val="000000"/>
                          </a:solidFill>
                          <a:latin typeface="Calibri"/>
                          <a:ea typeface="Calibri"/>
                        </a:rPr>
                        <a:t> Συγκρίσεις μεταξύ πολιτισμώ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ea typeface="Calibri"/>
                        </a:rPr>
                        <a:t>5.</a:t>
                      </a:r>
                      <a:r>
                        <a:rPr b="1" lang="el-GR" sz="1800" spc="-1" strike="noStrike">
                          <a:solidFill>
                            <a:srgbClr val="000000"/>
                          </a:solidFill>
                          <a:latin typeface="Calibri"/>
                          <a:ea typeface="Calibri"/>
                        </a:rPr>
                        <a:t>Γεωγραφικά διαμε-ρίσματα και Νομοί</a:t>
                      </a:r>
                      <a:r>
                        <a:rPr b="0" lang="el-GR" sz="1800" spc="-1" strike="noStrike">
                          <a:solidFill>
                            <a:srgbClr val="000000"/>
                          </a:solidFill>
                          <a:latin typeface="Calibri"/>
                          <a:ea typeface="Calibri"/>
                        </a:rPr>
                        <a:t>: Χαρακτηριστικά στοιχεία. Η ζωή στον νομό μας, στην πόλη μας: όρια, προϊόντα, απασχόληση, ιστορία</a:t>
                      </a:r>
                      <a:endParaRPr b="0" lang="en-US" sz="18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4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87FB-516F-4A7F-82CF-D6CC2EA0BE9A}"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07" name="5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Φύλλο Εργασίας 2</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Με τη βοήθεια του πίνακα που ακολουθεί σχεδιάστε στόχους και δραστηριότητες με θέμα: «Ζούμε μαζί και συνεργαζόμαστε».</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Μην ξεχνάτε πως έχουμε 4 άξονες / στόχους.</a:t>
            </a:r>
            <a:endParaRPr b="0" lang="en-US" sz="3200" spc="-1" strike="noStrike">
              <a:solidFill>
                <a:srgbClr val="000000"/>
              </a:solidFill>
              <a:latin typeface="Cambria"/>
            </a:endParaRPr>
          </a:p>
        </p:txBody>
      </p:sp>
      <p:sp>
        <p:nvSpPr>
          <p:cNvPr id="110"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1ADC-BFDB-44EC-B696-255AF9C36681}"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11"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324000" y="620640"/>
          <a:ext cx="8496000" cy="4830840"/>
        </p:xfrm>
        <a:graphic>
          <a:graphicData uri="http://schemas.openxmlformats.org/drawingml/2006/table">
            <a:tbl>
              <a:tblPr/>
              <a:tblGrid>
                <a:gridCol w="2836800"/>
                <a:gridCol w="1886040"/>
                <a:gridCol w="1793520"/>
                <a:gridCol w="1979640"/>
              </a:tblGrid>
              <a:tr h="701640">
                <a:tc gridSpan="2">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mbria"/>
                          <a:ea typeface="Times New Roman"/>
                        </a:rPr>
                        <a:t>ΟΡΓΑΝΩΣΙΑΚΟΣ ΤΟΜΕΑ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mbria"/>
                          <a:ea typeface="Times New Roman"/>
                        </a:rPr>
                        <a:t>ΔΙΔΑΚΤΙΚΟ-ΜΑΘΗΣΙΑΚΟΣ ΤΟΜΕΑ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2280">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mbria"/>
                          <a:ea typeface="Times New Roman"/>
                        </a:rPr>
                        <a:t>Τι ισχύει στο σχολείο μου;</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ι μπορεί να γίνει με τα νέα Π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ι ισχύει στο νέο ΠΣ Μελέτη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Ποιοι οι στόχοι και οι μέθοδοί μου;</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r>
              <a:tr h="350280">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351000">
                <a:tc gridSpan="2">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mbria"/>
                          <a:ea typeface="Times New Roman"/>
                        </a:rPr>
                        <a:t>ΤΟΜΕΑΣ ΑΞΙΟΛΟΓΗΣΗ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ΟΜΕΑΣ ΠΡΟΕΤΟΙΜΑΣΙΑΣ</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2920">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Πώς αξιολογείται η μάθηση ;</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Πώς αξιολογείται η ικανότητα εφαρμογών;</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Τι;</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c>
                  <a:txBody>
                    <a:bodyPr lIns="46440" rIns="46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ea typeface="Calibri"/>
                        </a:rPr>
                        <a:t>Πώς; Πόσο χρόνο;</a:t>
                      </a:r>
                      <a:endParaRPr b="0" lang="en-US" sz="20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r h="972720">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c>
                  <a:txBody>
                    <a:bodyPr lIns="46440" rIns="464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solidFill>
                      <a:srgbClr val="d2eaf1"/>
                    </a:solidFill>
                  </a:tcPr>
                </a:tc>
              </a:tr>
            </a:tbl>
          </a:graphicData>
        </a:graphic>
      </p:graphicFrame>
      <p:sp>
        <p:nvSpPr>
          <p:cNvPr id="113" name="6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41F9-E8A2-4F11-88A9-A7C5178E5DF9}"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14" name="7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Στόχοι Εισήγησης</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7000"/>
          </a:bodyPr>
          <a:p>
            <a:pPr marL="498960" indent="-49896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Να παρουσιάσει τις βασικές επιδιώξεις του νέου ΠΣ. </a:t>
            </a:r>
            <a:endParaRPr b="0" lang="en-US" sz="2700" spc="-1" strike="noStrike">
              <a:solidFill>
                <a:srgbClr val="000000"/>
              </a:solidFill>
              <a:latin typeface="Cambria"/>
            </a:endParaRPr>
          </a:p>
          <a:p>
            <a:pPr marL="498960" indent="-49896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Να καταγράψει τις αλλαγές στο νέο ΠΣ Μελέτης. </a:t>
            </a:r>
            <a:endParaRPr b="0" lang="en-US" sz="2700" spc="-1" strike="noStrike">
              <a:solidFill>
                <a:srgbClr val="000000"/>
              </a:solidFill>
              <a:latin typeface="Cambria"/>
            </a:endParaRPr>
          </a:p>
          <a:p>
            <a:pPr marL="498960" indent="-49896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Να επισημάνει θεμελιώδεις παιδαγωγικές αξίες και αρχές του ΠΣ Μελέτης και τις διδακτικές τους συνεπαγωγές.</a:t>
            </a:r>
            <a:endParaRPr b="0" lang="en-US" sz="2700" spc="-1" strike="noStrike">
              <a:solidFill>
                <a:srgbClr val="000000"/>
              </a:solidFill>
              <a:latin typeface="Cambria"/>
            </a:endParaRPr>
          </a:p>
          <a:p>
            <a:pPr marL="498960" indent="-49896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Να εξηγήσει τον τρόπο ανάπτυξης του ΠΣ και την αξιοποίηση των στόχων.</a:t>
            </a:r>
            <a:endParaRPr b="0" lang="en-US" sz="2700" spc="-1" strike="noStrike">
              <a:solidFill>
                <a:srgbClr val="000000"/>
              </a:solidFill>
              <a:latin typeface="Cambria"/>
            </a:endParaRPr>
          </a:p>
          <a:p>
            <a:pPr marL="498960" indent="-498960">
              <a:lnSpc>
                <a:spcPct val="90000"/>
              </a:lnSpc>
              <a:spcBef>
                <a:spcPts val="675"/>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Να ευαισθητοποιήσει στην καθοδήγηση σχεδιασμού  διδασκαλίας και εκπαιδευτικού υλικού στη ΜτΠ.</a:t>
            </a:r>
            <a:endParaRPr b="0" lang="en-US" sz="2700" spc="-1" strike="noStrike">
              <a:solidFill>
                <a:srgbClr val="000000"/>
              </a:solidFill>
              <a:latin typeface="Cambria"/>
            </a:endParaRPr>
          </a:p>
        </p:txBody>
      </p:sp>
      <p:sp>
        <p:nvSpPr>
          <p:cNvPr id="47" name="5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C37F-9FF5-43D8-A4B6-15F94C416E39}"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48" name="6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Βιβλιογραφία</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Κουλουμπαρίτση, Α.Χ., Μουρατιάν, Ζ. κ.ά. (2004) Σχέδια Εργασίας στην Τάξη και στην Πράξη. Αθήνα: Πατάκης.</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Κουλουμπαρίτση, Α.Χ. (2011) Αναλυτικό Πρόγραμμα και Διδακτικός Σχεδιασμός. Αθήνα: Γρηγόρης.</a:t>
            </a:r>
            <a:endParaRPr b="0" lang="en-US" sz="3200" spc="-1" strike="noStrike">
              <a:solidFill>
                <a:srgbClr val="000000"/>
              </a:solidFill>
              <a:latin typeface="Cambria"/>
            </a:endParaRPr>
          </a:p>
        </p:txBody>
      </p:sp>
      <p:sp>
        <p:nvSpPr>
          <p:cNvPr id="117"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E503-DEBB-4804-98DD-6795390F7B26}"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118"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1. Βασικές επιδιώξεις του νέου ΠΣ στο πλαίσιο του «Νέου Σχολείου»</a:t>
            </a:r>
            <a:endParaRPr b="0" lang="en-US" sz="1800" spc="-1" strike="noStrike">
              <a:solidFill>
                <a:srgbClr val="000000"/>
              </a:solidFill>
              <a:latin typeface="Calibri"/>
            </a:endParaRPr>
          </a:p>
        </p:txBody>
      </p:sp>
      <p:sp>
        <p:nvSpPr>
          <p:cNvPr id="50" name=""/>
          <p:cNvSpPr txBox="1"/>
          <p:nvPr/>
        </p:nvSpPr>
        <p:spPr>
          <a:xfrm>
            <a:off x="324000" y="765000"/>
            <a:ext cx="8362800" cy="53611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Oι τρόποι με τους οποίους το ΠΣ επιχειρεί να στηρίξει το Νέο Σχολείο χαρακτηρίζονται από:</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καθιέρωση και ενίσχυση της </a:t>
            </a:r>
            <a:r>
              <a:rPr b="0" i="1" lang="el-GR" sz="1800" spc="-1" strike="noStrike">
                <a:solidFill>
                  <a:srgbClr val="000000"/>
                </a:solidFill>
                <a:latin typeface="Cambria"/>
              </a:rPr>
              <a:t>καινοτομίας</a:t>
            </a:r>
            <a:r>
              <a:rPr b="0" lang="el-GR" sz="1800" spc="-1" strike="noStrike">
                <a:solidFill>
                  <a:srgbClr val="000000"/>
                </a:solidFill>
                <a:latin typeface="Cambria"/>
              </a:rPr>
              <a:t> και </a:t>
            </a:r>
            <a:r>
              <a:rPr b="0" i="1" lang="el-GR" sz="1800" spc="-1" strike="noStrike">
                <a:solidFill>
                  <a:srgbClr val="000000"/>
                </a:solidFill>
                <a:latin typeface="Cambria"/>
              </a:rPr>
              <a:t>δημιουργικότητας</a:t>
            </a:r>
            <a:r>
              <a:rPr b="0" lang="el-GR" sz="1800" spc="-1" strike="noStrike">
                <a:solidFill>
                  <a:srgbClr val="000000"/>
                </a:solidFill>
                <a:latin typeface="Cambria"/>
              </a:rPr>
              <a:t> .</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έμφαση στις διαδικασίες εφαρμογής του ΠΣ με  την αξιοποίηση της </a:t>
            </a:r>
            <a:r>
              <a:rPr b="0" i="1" lang="el-GR" sz="1800" spc="-1" strike="noStrike">
                <a:solidFill>
                  <a:srgbClr val="000000"/>
                </a:solidFill>
                <a:latin typeface="Cambria"/>
              </a:rPr>
              <a:t>πιλοτικής του εφαρμογής</a:t>
            </a:r>
            <a:r>
              <a:rPr b="0" lang="el-GR" sz="1800" spc="-1" strike="noStrike">
                <a:solidFill>
                  <a:srgbClr val="000000"/>
                </a:solidFill>
                <a:latin typeface="Cambria"/>
              </a:rPr>
              <a:t> .</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εστίαση σε </a:t>
            </a:r>
            <a:r>
              <a:rPr b="0" i="1" lang="el-GR" sz="1800" spc="-1" strike="noStrike">
                <a:solidFill>
                  <a:srgbClr val="000000"/>
                </a:solidFill>
                <a:latin typeface="Cambria"/>
              </a:rPr>
              <a:t>μορφωτικούς στόχους/ικανότητες</a:t>
            </a:r>
            <a:r>
              <a:rPr b="0" lang="el-GR" sz="1800" spc="-1" strike="noStrike">
                <a:solidFill>
                  <a:srgbClr val="000000"/>
                </a:solidFill>
                <a:latin typeface="Cambria"/>
              </a:rPr>
              <a:t>.</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έμφαση στη </a:t>
            </a:r>
            <a:r>
              <a:rPr b="0" i="1" lang="el-GR" sz="1800" spc="-1" strike="noStrike">
                <a:solidFill>
                  <a:srgbClr val="000000"/>
                </a:solidFill>
                <a:latin typeface="Cambria"/>
              </a:rPr>
              <a:t>διασύνδεση</a:t>
            </a:r>
            <a:r>
              <a:rPr b="0" lang="el-GR" sz="1800" spc="-1" strike="noStrike">
                <a:solidFill>
                  <a:srgbClr val="000000"/>
                </a:solidFill>
                <a:latin typeface="Cambria"/>
              </a:rPr>
              <a:t> και </a:t>
            </a:r>
            <a:r>
              <a:rPr b="0" i="1" lang="el-GR" sz="1800" spc="-1" strike="noStrike">
                <a:solidFill>
                  <a:srgbClr val="000000"/>
                </a:solidFill>
                <a:latin typeface="Cambria"/>
              </a:rPr>
              <a:t>επικοινωνία</a:t>
            </a:r>
            <a:r>
              <a:rPr b="0" lang="el-GR" sz="1800" spc="-1" strike="noStrike">
                <a:solidFill>
                  <a:srgbClr val="000000"/>
                </a:solidFill>
                <a:latin typeface="Cambria"/>
              </a:rPr>
              <a:t> των διδακτικών/μαθησιακών αντικειμένων και στις </a:t>
            </a:r>
            <a:r>
              <a:rPr b="0" i="1" lang="el-GR" sz="1800" spc="-1" strike="noStrike">
                <a:solidFill>
                  <a:srgbClr val="000000"/>
                </a:solidFill>
                <a:latin typeface="Cambria"/>
              </a:rPr>
              <a:t>θεμελιώδεις ιδέες/έννοιες και διαδικασίες.</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ανάπτυξη δραστηριοτήτων για τη </a:t>
            </a:r>
            <a:r>
              <a:rPr b="0" i="1" lang="el-GR" sz="1800" spc="-1" strike="noStrike">
                <a:solidFill>
                  <a:srgbClr val="000000"/>
                </a:solidFill>
                <a:latin typeface="Cambria"/>
              </a:rPr>
              <a:t>«Σχολική και Κοινωνική Ζωή»</a:t>
            </a:r>
            <a:r>
              <a:rPr b="0" lang="el-GR" sz="1800" spc="-1" strike="noStrike">
                <a:solidFill>
                  <a:srgbClr val="000000"/>
                </a:solidFill>
                <a:latin typeface="Cambria"/>
              </a:rPr>
              <a:t> με οριζόντια και κάθετη σύνδεση με τα μαθησιακά αντικείμενα. </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εγκάρσια διάχυση των ιδεών της </a:t>
            </a:r>
            <a:r>
              <a:rPr b="0" i="1" lang="el-GR" sz="1800" spc="-1" strike="noStrike">
                <a:solidFill>
                  <a:srgbClr val="000000"/>
                </a:solidFill>
                <a:latin typeface="Cambria"/>
              </a:rPr>
              <a:t>προστασίας του περιβάλλοντος, της αειφορίας και του πολιτισμού</a:t>
            </a:r>
            <a:r>
              <a:rPr b="0" lang="el-GR" sz="1800" spc="-1" strike="noStrike">
                <a:solidFill>
                  <a:srgbClr val="000000"/>
                </a:solidFill>
                <a:latin typeface="Cambria"/>
              </a:rPr>
              <a:t>.</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προώθηση της παιδαγωγικής της </a:t>
            </a:r>
            <a:r>
              <a:rPr b="0" i="1" lang="el-GR" sz="1800" spc="-1" strike="noStrike">
                <a:solidFill>
                  <a:srgbClr val="000000"/>
                </a:solidFill>
                <a:latin typeface="Cambria"/>
              </a:rPr>
              <a:t>διαφοροποίησης</a:t>
            </a:r>
            <a:r>
              <a:rPr b="0" lang="el-GR" sz="1800" spc="-1" strike="noStrike">
                <a:solidFill>
                  <a:srgbClr val="000000"/>
                </a:solidFill>
                <a:latin typeface="Cambria"/>
              </a:rPr>
              <a:t> στη διδασκαλία-μάθηση.</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προώθηση της </a:t>
            </a:r>
            <a:r>
              <a:rPr b="0" i="1" lang="el-GR" sz="1800" spc="-1" strike="noStrike">
                <a:solidFill>
                  <a:srgbClr val="000000"/>
                </a:solidFill>
                <a:latin typeface="Cambria"/>
              </a:rPr>
              <a:t>ψηφιακής επικοινωνίας</a:t>
            </a:r>
            <a:r>
              <a:rPr b="0" lang="el-GR" sz="1800" spc="-1" strike="noStrike">
                <a:solidFill>
                  <a:srgbClr val="000000"/>
                </a:solidFill>
                <a:latin typeface="Cambria"/>
              </a:rPr>
              <a:t> σε ισορροπία με τις κλασικές μορφές «προφορικότητας» και «εγγραματισμού».</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Την ενίσχυση της </a:t>
            </a:r>
            <a:r>
              <a:rPr b="0" i="1" lang="el-GR" sz="1800" spc="-1" strike="noStrike">
                <a:solidFill>
                  <a:srgbClr val="000000"/>
                </a:solidFill>
                <a:latin typeface="Cambria"/>
              </a:rPr>
              <a:t>αυτονομίας-ευελιξίας</a:t>
            </a:r>
            <a:r>
              <a:rPr b="0" lang="el-GR" sz="1800" spc="-1" strike="noStrike">
                <a:solidFill>
                  <a:srgbClr val="000000"/>
                </a:solidFill>
                <a:latin typeface="Cambria"/>
              </a:rPr>
              <a:t> της σχολικής μονάδας στη διαχείριση του ωρολογίου προγράμματος.</a:t>
            </a:r>
            <a:endParaRPr b="0" lang="en-US" sz="1800" spc="-1" strike="noStrike">
              <a:solidFill>
                <a:srgbClr val="000000"/>
              </a:solidFill>
              <a:latin typeface="Cambria"/>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51"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B5DD-A297-4F78-8453-EB1EBAD7DA77}"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52"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2. Τι αλλάζει στο νέο ΠΣ Μελέτης Περιβάλλοντος</a:t>
            </a:r>
            <a:endParaRPr b="0" lang="en-US" sz="2800" spc="-1" strike="noStrike">
              <a:solidFill>
                <a:srgbClr val="000000"/>
              </a:solidFill>
              <a:latin typeface="Calibri"/>
            </a:endParaRPr>
          </a:p>
        </p:txBody>
      </p:sp>
      <p:graphicFrame>
        <p:nvGraphicFramePr>
          <p:cNvPr id="54" name=""/>
          <p:cNvGraphicFramePr/>
          <p:nvPr/>
        </p:nvGraphicFramePr>
        <p:xfrm>
          <a:off x="539640" y="836640"/>
          <a:ext cx="8229600" cy="6041880"/>
        </p:xfrm>
        <a:graphic>
          <a:graphicData uri="http://schemas.openxmlformats.org/drawingml/2006/table">
            <a:tbl>
              <a:tblPr/>
              <a:tblGrid>
                <a:gridCol w="2743200"/>
                <a:gridCol w="2743200"/>
                <a:gridCol w="27432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mbria"/>
                        </a:rPr>
                        <a:t>ΗΤΑ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mbria"/>
                        </a:rPr>
                        <a:t>ΑΛΛΑΞΕ Σ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mbria"/>
                        </a:rPr>
                        <a:t>ΠΑΡΑΜΕΝΕ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Αμιγώς διαθεματικ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Κατεύθυνση Φ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Κατεύθυνση Κ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Cambria"/>
                        </a:rPr>
                        <a:t>Ως επίκεντρο </a:t>
                      </a:r>
                      <a:r>
                        <a:rPr b="0" lang="el-GR" sz="1600" spc="-1" strike="noStrike">
                          <a:solidFill>
                            <a:srgbClr val="000000"/>
                          </a:solidFill>
                          <a:latin typeface="Cambria"/>
                        </a:rPr>
                        <a:t>μελέτης ο </a:t>
                      </a:r>
                      <a:r>
                        <a:rPr b="1" lang="el-GR" sz="1600" spc="-1" strike="noStrike">
                          <a:solidFill>
                            <a:srgbClr val="000000"/>
                          </a:solidFill>
                          <a:latin typeface="Cambria"/>
                        </a:rPr>
                        <a:t>άνθρωπος, </a:t>
                      </a:r>
                      <a:r>
                        <a:rPr b="0" lang="el-GR" sz="1600" spc="-1" strike="noStrike">
                          <a:solidFill>
                            <a:srgbClr val="000000"/>
                          </a:solidFill>
                          <a:latin typeface="Cambria"/>
                        </a:rPr>
                        <a:t>οι ανάγκες του, ο τρόπος που επιβιώνει, δημιουργεί και εκφράζεται μέσα στη δομημένη  ανθρώπινη κοινωνί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Εννοιοκεντρικ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Κατεύθυνση ΦΕ (Φυσική/ Βιολογία/ Γεωγραφία) : Εστίαση  σε έννοιες όπως ήχος, μαγνήτες, μίγματ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Ανάδειξη της Τεχνολογίας και των μηχανών.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Κατεύθυνση ΚΕ: Έμφαση σε Πολιτική Παιδεία , π.χ. ταυτότητα, κοινότητε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a:t>
                      </a:r>
                      <a:r>
                        <a:rPr b="1" lang="el-GR" sz="1600" spc="-1" strike="noStrike">
                          <a:solidFill>
                            <a:srgbClr val="000000"/>
                          </a:solidFill>
                          <a:latin typeface="Cambria"/>
                        </a:rPr>
                        <a:t>Δομημένο σε  6 θεμελιώδεις μακρο-έννοιες </a:t>
                      </a:r>
                      <a:r>
                        <a:rPr b="0" lang="el-GR" sz="1600" spc="-1" strike="noStrike">
                          <a:solidFill>
                            <a:srgbClr val="000000"/>
                          </a:solidFill>
                          <a:latin typeface="Cambria"/>
                        </a:rPr>
                        <a:t>και στις συσχετίσεις τους: άτομο/ομάδα, τόπος, χρόνος, πολιτισμός, αλληλεξάρτησ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 Η Γεωγραφία παραμένει αρμονικά συνυφασμένη με άτομο /ομάδ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Σπονδυλωτ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Γραμμική συνέχεια στις Φ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Σπονδυλωτό στη διάσταση Κ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Στοχοκεντρικό  με έμφαση στη Συνεργατική Διερεύνησ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4 άξονες δεξιοτήτω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mbria"/>
                        </a:rPr>
                        <a:t>Διαφοροποιημένη διδασκαλί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4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C29D-EC83-435F-9C35-07FCF6CC0AE7}"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56" name="5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2</a:t>
            </a:r>
            <a:r>
              <a:rPr b="0" lang="el-GR" sz="4400" spc="-1" strike="noStrike" baseline="30000">
                <a:solidFill>
                  <a:srgbClr val="000000"/>
                </a:solidFill>
                <a:latin typeface="Calibri"/>
              </a:rPr>
              <a:t>Α</a:t>
            </a:r>
            <a:r>
              <a:rPr b="0" lang="el-GR" sz="4400" spc="-1" strike="noStrike">
                <a:solidFill>
                  <a:srgbClr val="000000"/>
                </a:solidFill>
                <a:latin typeface="Calibri"/>
              </a:rPr>
              <a:t>. Το Περιεχόμενο της ΜτΠ</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Το άτομο και </a:t>
            </a:r>
            <a:endParaRPr b="0" lang="en-US" sz="3200" spc="-1" strike="noStrike">
              <a:solidFill>
                <a:srgbClr val="000000"/>
              </a:solidFill>
              <a:latin typeface="Cambria"/>
            </a:endParaRPr>
          </a:p>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Η ομάδα: ταυτότητα, οικογένεια, οι φίλοι, κοινότητες…</a:t>
            </a:r>
            <a:endParaRPr b="0" lang="en-US" sz="3200" spc="-1" strike="noStrike">
              <a:solidFill>
                <a:srgbClr val="000000"/>
              </a:solidFill>
              <a:latin typeface="Cambria"/>
            </a:endParaRPr>
          </a:p>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Χώρος-τόπος – άνθρωποι / Περιβάλλον </a:t>
            </a:r>
            <a:endParaRPr b="0" lang="en-US" sz="3200" spc="-1" strike="noStrike">
              <a:solidFill>
                <a:srgbClr val="000000"/>
              </a:solidFill>
              <a:latin typeface="Cambria"/>
            </a:endParaRPr>
          </a:p>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Οικονομία</a:t>
            </a:r>
            <a:endParaRPr b="0" lang="en-US" sz="3200" spc="-1" strike="noStrike">
              <a:solidFill>
                <a:srgbClr val="000000"/>
              </a:solidFill>
              <a:latin typeface="Cambria"/>
            </a:endParaRPr>
          </a:p>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Επικοινωνία – Μέσα Επικοινωνίας</a:t>
            </a:r>
            <a:endParaRPr b="0" lang="en-US" sz="3200" spc="-1" strike="noStrike">
              <a:solidFill>
                <a:srgbClr val="000000"/>
              </a:solidFill>
              <a:latin typeface="Cambria"/>
            </a:endParaRPr>
          </a:p>
          <a:p>
            <a:pPr marL="514440" indent="-514440">
              <a:spcBef>
                <a:spcPts val="799"/>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mbria"/>
              </a:rPr>
              <a:t>Πολιτισμός</a:t>
            </a:r>
            <a:endParaRPr b="0" lang="en-US" sz="3200" spc="-1" strike="noStrike">
              <a:solidFill>
                <a:srgbClr val="000000"/>
              </a:solidFill>
              <a:latin typeface="Cambria"/>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208B-2934-41B1-AE77-C93607C5C9BC}"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60"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3. Θεμελιώδεις παιδαγωγικές αξίες και αρχές του ΠΣ Μελέτης και Διδακτικές συνεπαγωγές</a:t>
            </a:r>
            <a:endParaRPr b="0" lang="en-US" sz="2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6000"/>
          </a:bodyPr>
          <a:p>
            <a:pPr marL="493560" indent="-493560">
              <a:lnSpc>
                <a:spcPct val="90000"/>
              </a:lnSpc>
              <a:spcBef>
                <a:spcPts val="75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mbria"/>
              </a:rPr>
              <a:t>Παιδαγωγικές αξίες και αρχές οργάνωσης του ΠΣ Μελέτης</a:t>
            </a:r>
            <a:r>
              <a:rPr b="0" lang="el-GR" sz="3000" spc="-1" strike="noStrike">
                <a:solidFill>
                  <a:srgbClr val="000000"/>
                </a:solidFill>
                <a:latin typeface="Cambria"/>
              </a:rPr>
              <a:t>: εννοιοκεντρικό, σπονδυλωτό, διευρυνόμενου ορίζοντα, κριτική συνεργατική διερεύνηση</a:t>
            </a:r>
            <a:endParaRPr b="0" lang="en-US" sz="3000" spc="-1" strike="noStrike">
              <a:solidFill>
                <a:srgbClr val="000000"/>
              </a:solidFill>
              <a:latin typeface="Cambria"/>
            </a:endParaRPr>
          </a:p>
          <a:p>
            <a:pPr marL="493560" indent="-493560">
              <a:lnSpc>
                <a:spcPct val="90000"/>
              </a:lnSpc>
              <a:spcBef>
                <a:spcPts val="75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mbria"/>
              </a:rPr>
              <a:t>Διδακτικές συνεπαγωγές</a:t>
            </a:r>
            <a:r>
              <a:rPr b="0" lang="el-GR" sz="3000" spc="-1" strike="noStrike">
                <a:solidFill>
                  <a:srgbClr val="000000"/>
                </a:solidFill>
                <a:latin typeface="Cambria"/>
              </a:rPr>
              <a:t>: έμφαση στη διδασκαλία </a:t>
            </a:r>
            <a:r>
              <a:rPr b="1" lang="el-GR" sz="3000" spc="-1" strike="noStrike">
                <a:solidFill>
                  <a:srgbClr val="000000"/>
                </a:solidFill>
                <a:latin typeface="Cambria"/>
              </a:rPr>
              <a:t>με στόχο τη γνώση και την κατανόηση,</a:t>
            </a:r>
            <a:r>
              <a:rPr b="0" lang="el-GR" sz="3000" spc="-1" strike="noStrike">
                <a:solidFill>
                  <a:srgbClr val="000000"/>
                </a:solidFill>
                <a:latin typeface="Cambria"/>
              </a:rPr>
              <a:t> τη διατύπωση </a:t>
            </a:r>
            <a:r>
              <a:rPr b="1" lang="el-GR" sz="3000" spc="-1" strike="noStrike">
                <a:solidFill>
                  <a:srgbClr val="000000"/>
                </a:solidFill>
                <a:latin typeface="Cambria"/>
              </a:rPr>
              <a:t>γενικεύσεων</a:t>
            </a:r>
            <a:r>
              <a:rPr b="0" lang="el-GR" sz="3000" spc="-1" strike="noStrike">
                <a:solidFill>
                  <a:srgbClr val="000000"/>
                </a:solidFill>
                <a:latin typeface="Cambria"/>
              </a:rPr>
              <a:t>, την </a:t>
            </a:r>
            <a:r>
              <a:rPr b="1" lang="el-GR" sz="3000" spc="-1" strike="noStrike">
                <a:solidFill>
                  <a:srgbClr val="000000"/>
                </a:solidFill>
                <a:latin typeface="Cambria"/>
              </a:rPr>
              <a:t>κριτική συνεργατική διερεύνηση </a:t>
            </a:r>
            <a:r>
              <a:rPr b="0" lang="el-GR" sz="3000" spc="-1" strike="noStrike">
                <a:solidFill>
                  <a:srgbClr val="000000"/>
                </a:solidFill>
                <a:latin typeface="Cambria"/>
              </a:rPr>
              <a:t>και τη διαφοροποίηση ανάλογα προς τον τρόπο μάθησης, τις ανάγκες, τα διαφέροντα.</a:t>
            </a:r>
            <a:endParaRPr b="0" lang="en-US" sz="3000" spc="-1" strike="noStrike">
              <a:solidFill>
                <a:srgbClr val="000000"/>
              </a:solidFill>
              <a:latin typeface="Cambria"/>
            </a:endParaRPr>
          </a:p>
        </p:txBody>
      </p:sp>
      <p:sp>
        <p:nvSpPr>
          <p:cNvPr id="63"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5E7B-45EE-4710-B1EC-7E230435E266}"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64"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3</a:t>
            </a:r>
            <a:r>
              <a:rPr b="0" lang="el-GR" sz="2200" spc="-1" strike="noStrike" baseline="30000">
                <a:solidFill>
                  <a:srgbClr val="000000"/>
                </a:solidFill>
                <a:latin typeface="Calibri"/>
              </a:rPr>
              <a:t>Α</a:t>
            </a:r>
            <a:r>
              <a:rPr b="0" lang="el-GR" sz="2200" spc="-1" strike="noStrike">
                <a:solidFill>
                  <a:srgbClr val="000000"/>
                </a:solidFill>
                <a:latin typeface="Calibri"/>
              </a:rPr>
              <a:t>  Παράδειγμα ανάπτυξης του ΠΣ Μελέτης και σχεδιασμού των στόχων /προσδοκώμενων μαθησιακών αποτελεσμάτων </a:t>
            </a:r>
            <a:endParaRPr b="0" lang="en-US" sz="2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mbria"/>
              </a:rPr>
              <a:t>1. Με βάση το θέμα μου -που συνήθως το προσδιορίζει μία μακρο-εννοια- σχεδιάζω σε διάγραμμα τις συσχετιζόμενες έννοιες. Με αυτές «χτίζω λογικές προτάσεις» που συνιστούν </a:t>
            </a:r>
            <a:r>
              <a:rPr b="0" i="1" lang="el-GR" sz="3000" spc="-1" strike="noStrike">
                <a:solidFill>
                  <a:srgbClr val="000000"/>
                </a:solidFill>
                <a:latin typeface="Cambria"/>
              </a:rPr>
              <a:t>γενίκευση..Και συντείνουν στη μεταφορά γνώσης.</a:t>
            </a:r>
            <a:endParaRPr b="0" lang="en-US" sz="3000" spc="-1" strike="noStrike">
              <a:solidFill>
                <a:srgbClr val="000000"/>
              </a:solidFill>
              <a:latin typeface="Cambri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mbria"/>
              </a:rPr>
              <a:t>Μία γενίκευση: α. διατυπώνεται με μακρο-εννοιες και τις συναφείς τους</a:t>
            </a:r>
            <a:endParaRPr b="0" lang="en-US" sz="3000" spc="-1" strike="noStrike">
              <a:solidFill>
                <a:srgbClr val="000000"/>
              </a:solidFill>
              <a:latin typeface="Cambri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mbria"/>
              </a:rPr>
              <a:t>β. Κατέχει κεντρικό ρόλο στην επιστήμη</a:t>
            </a:r>
            <a:endParaRPr b="0" lang="en-US" sz="3000" spc="-1" strike="noStrike">
              <a:solidFill>
                <a:srgbClr val="000000"/>
              </a:solidFill>
              <a:latin typeface="Cambri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Cambria"/>
              </a:rPr>
              <a:t>γ. Βρίσκει εφαρμογή στην καθημερινή ζωή. </a:t>
            </a:r>
            <a:endParaRPr b="0" lang="en-US" sz="3000" spc="-1" strike="noStrike">
              <a:solidFill>
                <a:srgbClr val="000000"/>
              </a:solidFill>
              <a:latin typeface="Cambria"/>
            </a:endParaRPr>
          </a:p>
        </p:txBody>
      </p:sp>
      <p:sp>
        <p:nvSpPr>
          <p:cNvPr id="67"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D2F5-ED3B-4B1A-83CD-70344DA733A1}"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68"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Άτομο / Ομάδα / Ταυτότητες /Κοινωνική Οργάνωση</a:t>
            </a:r>
            <a:br>
              <a:rPr sz="2800"/>
            </a:br>
            <a:r>
              <a:rPr b="0" lang="el-GR" sz="2800" spc="-1" strike="noStrike">
                <a:solidFill>
                  <a:srgbClr val="000000"/>
                </a:solidFill>
                <a:latin typeface="Calibri"/>
              </a:rPr>
              <a:t>Ένα Παράδειγμα</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Κείμενο Βάσης: «Ως είδος αποτελούμε κοινωνικά όντα, τα οποία περνάμε τη ζωή μας συντροφιά με άλλα όντα (άνθρωπος ον κοινωνικό). Οργανωνόμαστε σε ποικίλα είδη κοινωνικών ομαδοποιήσεων, όπως είναι: η οικογένεια, η νομαδική ζωή, τα χωριά, οι πόλεις, και οι χώρες όπου ζούμε, ανταλλάσσουμε αγαθά (συναλλασσόμαστε, οικονομική και κοινωνική </a:t>
            </a:r>
            <a:r>
              <a:rPr b="1" lang="el-GR" sz="2700" spc="-1" strike="noStrike">
                <a:solidFill>
                  <a:srgbClr val="000000"/>
                </a:solidFill>
                <a:latin typeface="Cambria"/>
              </a:rPr>
              <a:t>αλληλεξάρτηση</a:t>
            </a:r>
            <a:r>
              <a:rPr b="0" lang="el-GR" sz="2700" spc="-1" strike="noStrike">
                <a:solidFill>
                  <a:srgbClr val="000000"/>
                </a:solidFill>
                <a:latin typeface="Cambria"/>
              </a:rPr>
              <a:t>), αναπτυσσόμαστε και, γενικώς, αλληλεπιδρούμε με πολλούς τρόπους.</a:t>
            </a:r>
            <a:endParaRPr b="0" lang="en-US" sz="2700" spc="-1" strike="noStrike">
              <a:solidFill>
                <a:srgbClr val="000000"/>
              </a:solidFill>
              <a:latin typeface="Cambri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       </a:t>
            </a:r>
            <a:r>
              <a:rPr b="0" lang="el-GR" sz="2700" spc="-1" strike="noStrike">
                <a:solidFill>
                  <a:srgbClr val="000000"/>
                </a:solidFill>
                <a:latin typeface="Cambria"/>
              </a:rPr>
              <a:t>Όπως και σε άλλα είδη, </a:t>
            </a:r>
            <a:r>
              <a:rPr b="1" lang="el-GR" sz="2700" spc="-1" strike="noStrike">
                <a:solidFill>
                  <a:srgbClr val="000000"/>
                </a:solidFill>
                <a:latin typeface="Cambria"/>
              </a:rPr>
              <a:t>η επιβίωσή</a:t>
            </a:r>
            <a:r>
              <a:rPr b="0" lang="el-GR" sz="2700" spc="-1" strike="noStrike">
                <a:solidFill>
                  <a:srgbClr val="000000"/>
                </a:solidFill>
                <a:latin typeface="Cambria"/>
              </a:rPr>
              <a:t> μας στηρίζεται στη </a:t>
            </a:r>
            <a:r>
              <a:rPr b="1" lang="el-GR" sz="2700" spc="-1" strike="noStrike">
                <a:solidFill>
                  <a:srgbClr val="000000"/>
                </a:solidFill>
                <a:latin typeface="Cambria"/>
              </a:rPr>
              <a:t>δομή</a:t>
            </a:r>
            <a:r>
              <a:rPr b="0" lang="el-GR" sz="2700" spc="-1" strike="noStrike">
                <a:solidFill>
                  <a:srgbClr val="000000"/>
                </a:solidFill>
                <a:latin typeface="Cambria"/>
              </a:rPr>
              <a:t> και την </a:t>
            </a:r>
            <a:r>
              <a:rPr b="1" lang="el-GR" sz="2700" spc="-1" strike="noStrike">
                <a:solidFill>
                  <a:srgbClr val="000000"/>
                </a:solidFill>
                <a:latin typeface="Cambria"/>
              </a:rPr>
              <a:t>οργάνωση</a:t>
            </a:r>
            <a:r>
              <a:rPr b="0" lang="el-GR" sz="2700" spc="-1" strike="noStrike">
                <a:solidFill>
                  <a:srgbClr val="000000"/>
                </a:solidFill>
                <a:latin typeface="Cambria"/>
              </a:rPr>
              <a:t> της κοινωνικής  ζωής μας .</a:t>
            </a:r>
            <a:endParaRPr b="0" lang="en-US" sz="2700" spc="-1" strike="noStrike">
              <a:solidFill>
                <a:srgbClr val="000000"/>
              </a:solidFill>
              <a:latin typeface="Cambria"/>
            </a:endParaRPr>
          </a:p>
        </p:txBody>
      </p:sp>
      <p:sp>
        <p:nvSpPr>
          <p:cNvPr id="71"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5173-CD1E-4843-9FBC-869802CB6BF3}"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72"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Γενικεύσεις (1): Το εφαλτήριο προς την κατανόηση και τη «Μεταφορά γνώσης»</a:t>
            </a:r>
            <a:endParaRPr b="0" lang="en-US" sz="2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mbria"/>
              </a:rPr>
              <a:t>Στις Κοινωνικές Επιστήμες, οι γενικεύσεις </a:t>
            </a:r>
            <a:r>
              <a:rPr b="1" lang="el-GR" sz="2700" spc="-1" strike="noStrike">
                <a:solidFill>
                  <a:srgbClr val="000000"/>
                </a:solidFill>
                <a:latin typeface="Cambria"/>
              </a:rPr>
              <a:t>δεν</a:t>
            </a:r>
            <a:r>
              <a:rPr b="0" lang="el-GR" sz="2700" spc="-1" strike="noStrike">
                <a:solidFill>
                  <a:srgbClr val="000000"/>
                </a:solidFill>
                <a:latin typeface="Cambria"/>
              </a:rPr>
              <a:t> εκφράζουν  νομοτελειακές αλήθειες καθολικής ισχύος, όπως στις Φυσικές Επιστήμες, αλλά εκφράζουν ερμηνευτικά σχήματα ευρύτερης ισχύος. Οι γενικεύσεις συνοδεύονται από ανοικτού τύπου ερωτήματα, τα οποία διατυπώνονται με τα </a:t>
            </a:r>
            <a:r>
              <a:rPr b="1" lang="el-GR" sz="2700" spc="-1" strike="noStrike">
                <a:solidFill>
                  <a:srgbClr val="000000"/>
                </a:solidFill>
                <a:latin typeface="Cambria"/>
              </a:rPr>
              <a:t>επτά ουσιώδη ερωτήματα</a:t>
            </a:r>
            <a:r>
              <a:rPr b="0" lang="el-GR" sz="2700" spc="-1" strike="noStrike">
                <a:solidFill>
                  <a:srgbClr val="000000"/>
                </a:solidFill>
                <a:latin typeface="Cambria"/>
              </a:rPr>
              <a:t>: </a:t>
            </a:r>
            <a:r>
              <a:rPr b="1" lang="el-GR" sz="2700" spc="-1" strike="noStrike">
                <a:solidFill>
                  <a:srgbClr val="000000"/>
                </a:solidFill>
                <a:latin typeface="Cambria"/>
              </a:rPr>
              <a:t>Ποιος; Τι; Πότε; Πού; Πώς; Πώς το ξέρω; Γιατί;</a:t>
            </a:r>
            <a:r>
              <a:rPr b="0" lang="el-GR" sz="2700" spc="-1" strike="noStrike">
                <a:solidFill>
                  <a:srgbClr val="000000"/>
                </a:solidFill>
                <a:latin typeface="Cambria"/>
              </a:rPr>
              <a:t> Στην εννοιοκεντρική προσέγγιση τα ουσιώδη ερωτήματα περιέχουν έννοιες που υπάρχουν στις γενικεύσεις. Αυτά τα ερωτήματα ονομάζονται </a:t>
            </a:r>
            <a:r>
              <a:rPr b="1" lang="el-GR" sz="2700" spc="-1" strike="noStrike">
                <a:solidFill>
                  <a:srgbClr val="000000"/>
                </a:solidFill>
                <a:latin typeface="Cambria"/>
              </a:rPr>
              <a:t>ουσιώδη ερωτήματα</a:t>
            </a:r>
            <a:r>
              <a:rPr b="0" lang="el-GR" sz="2700" spc="-1" strike="noStrike">
                <a:solidFill>
                  <a:srgbClr val="000000"/>
                </a:solidFill>
                <a:latin typeface="Cambria"/>
              </a:rPr>
              <a:t>.</a:t>
            </a:r>
            <a:endParaRPr b="0" lang="en-US" sz="2700" spc="-1" strike="noStrike">
              <a:solidFill>
                <a:srgbClr val="000000"/>
              </a:solidFill>
              <a:latin typeface="Cambria"/>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mbria"/>
            </a:endParaRPr>
          </a:p>
        </p:txBody>
      </p:sp>
      <p:sp>
        <p:nvSpPr>
          <p:cNvPr id="75" name="3 - Θέση αριθμού διαφάνειας"/>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2EA3-33F2-4B5F-977E-03DDE2B96C18}" type="slidenum">
              <a:rPr b="0" lang="el-GR" sz="1200" spc="-1" strike="noStrike">
                <a:solidFill>
                  <a:srgbClr val="898989"/>
                </a:solidFill>
                <a:latin typeface="Cambria"/>
              </a:rPr>
              <a:t>&lt;number&gt;</a:t>
            </a:fld>
            <a:endParaRPr b="0" lang="en-US" sz="1200" spc="-1" strike="noStrike">
              <a:solidFill>
                <a:srgbClr val="000000"/>
              </a:solidFill>
              <a:latin typeface="Arial"/>
            </a:endParaRPr>
          </a:p>
        </p:txBody>
      </p:sp>
      <p:sp>
        <p:nvSpPr>
          <p:cNvPr id="76" name="4 - Θέση υποσέλιδου"/>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mbria"/>
              </a:rPr>
              <a:t>ΑΛΕΞΑΝΔΡΑ Χ. ΚΟΥΛΟΥΜΠΑΡΙΤΣΗ - ΕΠΙΜΟΡΦΩΣΗ ΣΧΟΛΙΚΩΝ ΣΥΜΒΟΥΛΩ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37:08Z</dcterms:created>
  <dc:creator>User</dc:creator>
  <dc:description/>
  <dc:language>en-US</dc:language>
  <cp:lastModifiedBy>User</cp:lastModifiedBy>
  <dcterms:modified xsi:type="dcterms:W3CDTF">2012-01-27T07:42:54Z</dcterms:modified>
  <cp:revision>37</cp:revision>
  <dc:subject/>
  <dc:title>Το Πρόγραμμα Σπουδών της Μελέτη Πστο πλαίσιο του Νέου Σχολείου</dc:title>
</cp:coreProperties>
</file>